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ng" ContentType="image/png"/>
  <Override PartName="/ppt/media/image13.pct" ContentType="image/x-pict"/>
  <Override PartName="/ppt/media/image4.jpeg" ContentType="image/jpeg"/>
  <Override PartName="/ppt/media/image8.pct" ContentType="image/x-pict"/>
  <Override PartName="/ppt/media/image7.pct" ContentType="image/x-pict"/>
  <Override PartName="/ppt/media/image12.jpeg" ContentType="image/jpeg"/>
  <Override PartName="/ppt/media/image19.pct" ContentType="image/x-pict"/>
  <Override PartName="/ppt/media/image16.png" ContentType="image/png"/>
  <Override PartName="/ppt/media/image15.jpeg" ContentType="image/jpeg"/>
  <Override PartName="/ppt/media/image14.png" ContentType="image/png"/>
  <Override PartName="/ppt/media/image11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5.png" ContentType="image/png"/>
  <Override PartName="/ppt/media/image3.jpeg" ContentType="image/jpeg"/>
  <Override PartName="/ppt/media/image6.png" ContentType="image/png"/>
  <Override PartName="/ppt/media/image1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26-A9EE-41E4-83B3-C8CD8CFB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93D-4717-4277-ADB9-7D7262B3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581-EC90-4774-A5CF-07B10E73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DB3-C201-45F2-B4FB-28611816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786-29BF-42F2-A5EE-542FB26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85A-22BB-4333-A8A5-0D524E91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583-4341-4DAA-9322-3BEED8F5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87-60E4-4DE5-B240-1FDA2AA9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811-AE43-485A-9193-3F44E8A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02F-3D23-42EC-9D58-6E1912E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079-0E23-468F-8C20-44E9AA4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EF0-1DDD-4AE7-A2F9-606B57B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DF4E-5F81-42D2-B584-17113CED9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503440"/>
            <a:ext cx="5922360" cy="3429000"/>
            <a:chOff x="380880" y="2503440"/>
            <a:chExt cx="5922360" cy="3429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80880" y="3417840"/>
              <a:ext cx="1836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63040" y="2944800"/>
              <a:ext cx="3940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416c8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Genom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78040" y="250344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384920" y="674640"/>
            <a:ext cx="6701760" cy="2075040"/>
            <a:chOff x="1384920" y="674640"/>
            <a:chExt cx="6701760" cy="2075040"/>
          </a:xfrm>
        </p:grpSpPr>
        <p:sp>
          <p:nvSpPr>
            <p:cNvPr id="46" name=""/>
            <p:cNvSpPr/>
            <p:nvPr/>
          </p:nvSpPr>
          <p:spPr>
            <a:xfrm>
              <a:off x="1384920" y="1741320"/>
              <a:ext cx="351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416c8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Genet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181480" y="674640"/>
              <a:ext cx="290520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2819520" y="3659040"/>
            <a:ext cx="6247800" cy="3122640"/>
            <a:chOff x="2819520" y="3659040"/>
            <a:chExt cx="6247800" cy="3122640"/>
          </a:xfrm>
        </p:grpSpPr>
        <p:sp>
          <p:nvSpPr>
            <p:cNvPr id="49" name=""/>
            <p:cNvSpPr/>
            <p:nvPr/>
          </p:nvSpPr>
          <p:spPr>
            <a:xfrm>
              <a:off x="2819520" y="365904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5105520" y="5094000"/>
              <a:ext cx="224928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laceHolder 1"/>
            <p:cNvSpPr>
              <a:spLocks noGrp="1"/>
            </p:cNvSpPr>
            <p:nvPr>
              <p:ph type="title"/>
            </p:nvPr>
          </p:nvSpPr>
          <p:spPr>
            <a:xfrm>
              <a:off x="3428640" y="3798360"/>
              <a:ext cx="5638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Bioinformatic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HGP - </a:t>
            </a: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BAC ends Wal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48040" y="2755800"/>
            <a:ext cx="5219640" cy="36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3548160"/>
            <a:ext cx="396216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.  I frammenti selezionati, che coprono in totale l’intero genoma, sono sequenziati e assemblati in un “contig” u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Si evita di sequenz. due volte la stessa reg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525680"/>
            <a:ext cx="8991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.  Il DNA isolato è rotto in piccoli pezzi con enzimi di restrizione e clonato in vettori di diversa capacità (YAC - BAC - PAC). I frammenti sono comparati sperimentalmente (ad es. FISH) e ne viene stabilito l’ordine lungo i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Il DNA isolato è rotto in piccoli pezzi con frammentazione meccanica e clonato in BA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89360"/>
            <a:ext cx="4724280" cy="36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 I frammenti sono sequenziati a caso (ridondanza e gap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. L’assemblaggio avviene a posteriori, utilizzando come  guida il lavoro dell’HGP, e sfruttando cluster di elaboratori dedicati =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sequenziamento in </a:t>
            </a:r>
            <a:r>
              <a:rPr b="1" lang="en-US" sz="2600" spc="-1" strike="noStrike">
                <a:solidFill>
                  <a:srgbClr val="1416c8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 mese,  assemblaggio in </a:t>
            </a:r>
            <a:r>
              <a:rPr b="1" lang="en-US" sz="2600" spc="-1" strike="noStrike">
                <a:solidFill>
                  <a:srgbClr val="1416c8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1416c8"/>
                </a:solidFill>
                <a:latin typeface="Times New Roman"/>
              </a:rPr>
              <a:t> mesi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49840" y="2438280"/>
            <a:ext cx="4317840" cy="4305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CELERA - </a:t>
            </a: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hole Genome Shotg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219320"/>
            <a:ext cx="4724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60000">
            <a:off x="914400" y="129492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54000" y="1347840"/>
            <a:ext cx="7047000" cy="5410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429000"/>
            <a:ext cx="228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1295280"/>
            <a:ext cx="4572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6781680"/>
            <a:ext cx="7010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06560" y="2666880"/>
            <a:ext cx="6933960" cy="0"/>
          </a:xfrm>
          <a:prstGeom prst="line">
            <a:avLst/>
          </a:prstGeom>
          <a:ln w="3816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6578640"/>
            <a:ext cx="213372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120" y="3846600"/>
            <a:ext cx="78120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657600"/>
            <a:ext cx="609840" cy="0"/>
          </a:xfrm>
          <a:prstGeom prst="line">
            <a:avLst/>
          </a:prstGeom>
          <a:ln w="19080">
            <a:solidFill>
              <a:srgbClr val="e00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40120" y="4495680"/>
            <a:ext cx="1270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ncis S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.Craig V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Giugno 2000: l’annun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6160" y="533160"/>
            <a:ext cx="819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Febbraio 2001: la pubblic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3352680"/>
            <a:ext cx="8153280" cy="489960"/>
          </a:xfrm>
          <a:prstGeom prst="rect">
            <a:avLst/>
          </a:prstGeom>
          <a:solidFill>
            <a:srgbClr val="f0e8d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                  “</a:t>
            </a: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Genome draft” or “Finished sequence”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52640" y="645768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* L’obiettivo dichiarato dell’HGP è la determinazione della sola porzione eucromatica del genoma. Telomeri, centromeri, e altre regioni eterocromatiche rimangono indeterminate, come anche un piccolo numero di “gap” inclonabi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Final goal (aprile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079640"/>
          <a:ext cx="8229600" cy="539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79640"/>
                    <a:ext cx="82296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544840"/>
            <a:ext cx="84582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ncettualizzare la vi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in termini biologici, non filosofici)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come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funzione e interazione di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molecole semplici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(dalla Fisica chim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1416c7"/>
              </a:buClr>
              <a:buFont typeface="Palatino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Palatino"/>
              </a:rPr>
              <a:t>estrarre e organizzare l’informazione associata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 con queste molecole, applicando tecniche informatiche su larga scala  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	</a:t>
            </a:r>
            <a:r>
              <a:rPr b="0" lang="it-IT" sz="2000" spc="-1" strike="noStrike">
                <a:solidFill>
                  <a:srgbClr val="1416c7"/>
                </a:solidFill>
                <a:latin typeface="Palatino"/>
              </a:rPr>
              <a:t>(principi di matematica applicata, scienze informatiche e statis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27040" y="5170320"/>
            <a:ext cx="6288120" cy="15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In breve, la bioinformatica è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000"/>
                </a:solidFill>
                <a:latin typeface="Palatino"/>
              </a:rPr>
              <a:t>sistema di </a:t>
            </a:r>
            <a:r>
              <a:rPr b="1" i="1" lang="it-IT" sz="2000" spc="-1" strike="noStrike">
                <a:solidFill>
                  <a:srgbClr val="ca0000"/>
                </a:solidFill>
                <a:latin typeface="Palatino"/>
              </a:rPr>
              <a:t>management</a:t>
            </a:r>
            <a:r>
              <a:rPr b="1" lang="it-IT" sz="2000" spc="-1" strike="noStrike">
                <a:solidFill>
                  <a:srgbClr val="ca0000"/>
                </a:solidFill>
                <a:latin typeface="Palatino"/>
              </a:rPr>
              <a:t> dell’informazione</a:t>
            </a: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Palatino"/>
              </a:rPr>
              <a:t>per la biologia molecolare e le scienze correlate.</a:t>
            </a:r>
            <a:r>
              <a:rPr b="0" lang="it-IT" sz="24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685800"/>
            <a:ext cx="2249640" cy="1687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1416c7"/>
                </a:solidFill>
                <a:uFillTx/>
                <a:latin typeface="Palatino"/>
              </a:rPr>
              <a:t>Bio</a:t>
            </a:r>
            <a:r>
              <a:rPr b="1" lang="it-IT" sz="3600" spc="-1" strike="noStrike">
                <a:solidFill>
                  <a:srgbClr val="1416c7"/>
                </a:solidFill>
                <a:latin typeface="Palatino"/>
              </a:rPr>
              <a:t> +</a:t>
            </a:r>
            <a:r>
              <a:rPr b="0" lang="it-IT" sz="3600" spc="-1" strike="noStrike">
                <a:solidFill>
                  <a:srgbClr val="1416c7"/>
                </a:solidFill>
                <a:latin typeface="Palatino"/>
              </a:rPr>
              <a:t> </a:t>
            </a:r>
            <a:r>
              <a:rPr b="1" lang="it-IT" sz="3600" spc="-1" strike="noStrike" u="sng">
                <a:solidFill>
                  <a:srgbClr val="1416c7"/>
                </a:solidFill>
                <a:uFillTx/>
                <a:latin typeface="Palatino"/>
              </a:rPr>
              <a:t>Inform</a:t>
            </a:r>
            <a:r>
              <a:rPr b="1" lang="it-IT" sz="3600" spc="-1" strike="noStrike">
                <a:solidFill>
                  <a:srgbClr val="1416c7"/>
                </a:solidFill>
                <a:latin typeface="Palatino"/>
              </a:rPr>
              <a:t> + atica</a:t>
            </a:r>
            <a:r>
              <a:rPr b="0" lang="it-IT" sz="3600" spc="-1" strike="noStrike">
                <a:solidFill>
                  <a:srgbClr val="1416c7"/>
                </a:solidFill>
                <a:latin typeface="Palatino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Scopi della bioinfor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400" y="4957920"/>
            <a:ext cx="7772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3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Fornire un’interpretazione biologica di “astratte”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elaborazioni matematiche e statis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8800" y="3693960"/>
            <a:ext cx="759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2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Sviluppare strumenti e risorse utili all’analisi de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1828800"/>
            <a:ext cx="83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1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Organizzare i dati in modo che ogni ricercatore possa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accedere alle informazioni esistenti, consultare i dati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presenti e immettere i risultati dei propri esperi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1920" y="297180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anche dati e strumenti di consul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1911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Algoritmi di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92280" y="579132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iologo   +   Informatico   =   Bioinfor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569960"/>
            <a:ext cx="8420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: “conservare” tutti 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I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cbi.nlm.nih.gov/About/too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MIM, UniSTS,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nella cartella </a:t>
            </a:r>
            <a:r>
              <a:rPr b="0" lang="en-US" sz="1400" spc="-1" strike="noStrike">
                <a:solidFill>
                  <a:srgbClr val="1416c8"/>
                </a:solidFill>
                <a:latin typeface="Lucida Grande"/>
              </a:rPr>
              <a:t>BioinfoWebFolder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vedi file: </a:t>
            </a:r>
            <a:r>
              <a:rPr b="1" lang="en-US" sz="1400" spc="-1" strike="noStrike">
                <a:solidFill>
                  <a:srgbClr val="1416c8"/>
                </a:solidFill>
                <a:latin typeface="Times New Roman"/>
              </a:rPr>
              <a:t>1_NCBI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: “estrarre” solo i dati vol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I’s Ensembl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nsembl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2_Ensembl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C Genome Bioinformatics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enome.ucsc.edu/cgi-bin/hg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Times New Roman"/>
              </a:rPr>
              <a:t>3_hgGateway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Times New Roman"/>
              </a:rPr>
              <a:t>Gestire i dati: “bank” e “brows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8840" y="2141640"/>
            <a:ext cx="1702080" cy="121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182880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4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765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cbi.nlm.nih.gov/blast/bl2seq/bl2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4_blast2seq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menu.hgmp.mrc.ac.uk/menu-bin/Nix/Nix.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400" spc="-1" strike="noStrike">
                <a:solidFill>
                  <a:srgbClr val="1416c8"/>
                </a:solidFill>
                <a:latin typeface="Lucida Grande"/>
              </a:rPr>
              <a:t>5_Nix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frodo.wi.mit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(vedi file: </a:t>
            </a:r>
            <a:r>
              <a:rPr b="1" lang="en-US" sz="1200" spc="-1" strike="noStrike">
                <a:solidFill>
                  <a:srgbClr val="1416c8"/>
                </a:solidFill>
                <a:latin typeface="Lucida Grande"/>
              </a:rPr>
              <a:t>6_primer3.html</a:t>
            </a:r>
            <a:r>
              <a:rPr b="0" lang="en-US" sz="14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44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292880" y="685800"/>
            <a:ext cx="185112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eb suppl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76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8"/>
                </a:solidFill>
                <a:latin typeface="Times New Roman"/>
              </a:rPr>
              <a:t>HGP: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enome.gov/Pages/Education/Kit/main.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8"/>
                </a:solidFill>
                <a:latin typeface="Times New Roman"/>
              </a:rPr>
              <a:t>Time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enomenewsnetwork.org/timeline/timeline_home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609480"/>
            <a:ext cx="8496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Dalla genetica alla genomica:</a:t>
            </a:r>
            <a:br>
              <a:rPr sz="3600"/>
            </a:b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timeline di una “evoluzione concettua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52280" y="2384280"/>
            <a:ext cx="9448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1865: le leggi di Me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la prima volta è indag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amente il problema 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smissione dei caratte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del scopre le leggi dell’ereditarie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97520" y="1676520"/>
            <a:ext cx="1697040" cy="248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34340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del, G. “Versuche über Pflanzen-Hybriden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Verhandlungen des naturforschenden Vereines, Abhandlungen Brü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3-47, (186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6400" y="5270400"/>
            <a:ext cx="8936280" cy="1281960"/>
            <a:chOff x="86400" y="5270400"/>
            <a:chExt cx="8936280" cy="1281960"/>
          </a:xfrm>
        </p:grpSpPr>
        <p:sp>
          <p:nvSpPr>
            <p:cNvPr id="59" name=""/>
            <p:cNvSpPr/>
            <p:nvPr/>
          </p:nvSpPr>
          <p:spPr>
            <a:xfrm>
              <a:off x="86400" y="5270400"/>
              <a:ext cx="89362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Gli individui possono essere selezionati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e incrociati scientificamente,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00204"/>
                  </a:solidFill>
                  <a:latin typeface="Times New Roman"/>
                </a:rPr>
                <a:t>ma non c’è ancora una spiegazione molecolare del fenomeno..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5715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09480" y="3782880"/>
            <a:ext cx="8229600" cy="2914920"/>
            <a:chOff x="609480" y="3782880"/>
            <a:chExt cx="8229600" cy="2914920"/>
          </a:xfrm>
        </p:grpSpPr>
        <p:sp>
          <p:nvSpPr>
            <p:cNvPr id="62" name=""/>
            <p:cNvSpPr/>
            <p:nvPr/>
          </p:nvSpPr>
          <p:spPr>
            <a:xfrm>
              <a:off x="3505320" y="4038480"/>
              <a:ext cx="47242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03: Sutton 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ropone l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teoria cromosomica dell’ereditarietà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, correlando il comportamento in meiosi dei cromosomi scoperti d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Flemming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nel 1882 con le modalità di trasmissione dei caratteri mendeliani. La teoria sarà dimostrata d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Morgan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nel 1910 con studi in </a:t>
              </a:r>
              <a:r>
                <a:rPr b="0" i="1" lang="en-US" sz="2000" spc="-1" strike="noStrike">
                  <a:solidFill>
                    <a:srgbClr val="1416c8"/>
                  </a:solidFill>
                  <a:latin typeface="Times New Roman"/>
                </a:rPr>
                <a:t>Drosophil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6329520"/>
              <a:ext cx="82296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tton, W. “The chromosomes in heredity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iological Bullet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231-251, (1903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609480" y="3782880"/>
              <a:ext cx="2743200" cy="2548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76320" y="568440"/>
            <a:ext cx="8991360" cy="3157200"/>
            <a:chOff x="76320" y="568440"/>
            <a:chExt cx="8991360" cy="3157200"/>
          </a:xfrm>
        </p:grpSpPr>
        <p:sp>
          <p:nvSpPr>
            <p:cNvPr id="66" name=""/>
            <p:cNvSpPr/>
            <p:nvPr/>
          </p:nvSpPr>
          <p:spPr>
            <a:xfrm>
              <a:off x="76320" y="3083040"/>
              <a:ext cx="8991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escher, F. "Ueber die chemische Zusammensetzung der Eiterzellen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oppe-Seyler's medicinisch-chemische Untersuchunge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441-460, (1871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7394400" y="568440"/>
              <a:ext cx="1673280" cy="251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8" name=""/>
            <p:cNvSpPr/>
            <p:nvPr/>
          </p:nvSpPr>
          <p:spPr>
            <a:xfrm>
              <a:off x="152280" y="933480"/>
              <a:ext cx="7086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869: Miescher 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er la prima volt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isol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una sostanza che chiam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nuclei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erchè abbondante nel nucleo cellulare e scrive l’articolo “La composizione chimica delle cellule del pus”. </a:t>
              </a:r>
              <a:br>
                <a:rPr sz="2000"/>
              </a:b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Più tardi la nucleina, caratterizzata chimicamente, si dimostrerà un acido, le cui componenti sono desossiribosio, fosfati e basi azotate. </a:t>
              </a:r>
              <a:br>
                <a:rPr sz="2000"/>
              </a:b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La sostanza è ribattezzat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5800" y="3581280"/>
            <a:ext cx="8361360" cy="3200400"/>
            <a:chOff x="685800" y="3581280"/>
            <a:chExt cx="8361360" cy="3200400"/>
          </a:xfrm>
        </p:grpSpPr>
        <p:sp>
          <p:nvSpPr>
            <p:cNvPr id="70" name=""/>
            <p:cNvSpPr/>
            <p:nvPr/>
          </p:nvSpPr>
          <p:spPr>
            <a:xfrm>
              <a:off x="685800" y="5394240"/>
              <a:ext cx="59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53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Watson e Crick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ropongono il modello 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oppia elic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per la molecola del DN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6130800"/>
              <a:ext cx="59436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tson, J.D. &amp; Crick, F.H.C. “A structure for deoxyribose nucleic acid”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a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737 -  738, (1953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6629400" y="3581280"/>
              <a:ext cx="241776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304920" y="914400"/>
            <a:ext cx="5943600" cy="3886200"/>
            <a:chOff x="304920" y="914400"/>
            <a:chExt cx="5943600" cy="3886200"/>
          </a:xfrm>
        </p:grpSpPr>
        <p:sp>
          <p:nvSpPr>
            <p:cNvPr id="74" name=""/>
            <p:cNvSpPr/>
            <p:nvPr/>
          </p:nvSpPr>
          <p:spPr>
            <a:xfrm>
              <a:off x="2209680" y="3048120"/>
              <a:ext cx="3657600" cy="17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very, O.T., MacLeod, C.M. and McCarty, M. “Studies on the chemical nature of the substance inducing transformation of pneumococcal types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J. Exp. Med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137-158, (1944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914400"/>
              <a:ext cx="4038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1944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Avery, McCarty e MacLeod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identificano nel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DN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 la </a:t>
              </a:r>
              <a:r>
                <a:rPr b="1" lang="en-US" sz="2000" spc="-1" strike="noStrike">
                  <a:solidFill>
                    <a:srgbClr val="1416c8"/>
                  </a:solidFill>
                  <a:latin typeface="Times New Roman"/>
                </a:rPr>
                <a:t>molecola della informazione ereditaria</a:t>
              </a:r>
              <a:r>
                <a:rPr b="0" lang="en-US" sz="2000" spc="-1" strike="noStrike">
                  <a:solidFill>
                    <a:srgbClr val="1416c8"/>
                  </a:solidFill>
                  <a:latin typeface="Times New Roman"/>
                </a:rPr>
                <a:t>: costituisce il “principio trasformante” che rende lisce le colonie di batteri a colonie rugos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304920" y="914400"/>
              <a:ext cx="1904760" cy="388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7" name=""/>
          <p:cNvSpPr/>
          <p:nvPr/>
        </p:nvSpPr>
        <p:spPr>
          <a:xfrm>
            <a:off x="6324480" y="1444680"/>
            <a:ext cx="2971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Base molecolare  no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00204"/>
                </a:solidFill>
                <a:latin typeface="Times New Roman"/>
              </a:rPr>
              <a:t>Informazione illeggibil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3920" y="1805040"/>
            <a:ext cx="61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9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66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Nirenberg, Khorana e Holley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determinano il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codice genetico </a:t>
            </a:r>
            <a:br>
              <a:rPr sz="20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-&gt; a ogni tripletta corrisponde un amminoacido e viceversa (... quasi).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In questo stadio della genetica è più facile sequenziare le proteine e dalla 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successione degli aminoacidi dedurre la sequenza nucleotidica.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69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: le università americane si collegano ad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ARPANET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, l’antenato di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INTERNET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77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Gilbert e Sanger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inventano un sistema per sequenziare “rapidamente” una </a:t>
            </a:r>
            <a:br>
              <a:rPr sz="2000"/>
            </a:b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          molecola di DNA. Si determinano alcune decine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bp/mese uomo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mu)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82: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Viene creata la banca dati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GenBank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1984: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Si discute pubblicamente della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utilità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e della realizzabilità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del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sequenziamento </a:t>
            </a:r>
            <a:br>
              <a:rPr sz="2000"/>
            </a:b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          di interi genomi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, fra cui quello umano.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85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Mullis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concepisce la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PCR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polymerase chain reaction -&gt;</a:t>
            </a: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Kb/mu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e00204"/>
                </a:solidFill>
                <a:latin typeface="Times New Roman"/>
              </a:rPr>
              <a:t> </a:t>
            </a:r>
            <a:br>
              <a:rPr sz="1200"/>
            </a:br>
            <a:br>
              <a:rPr sz="1200"/>
            </a:br>
            <a:r>
              <a:rPr b="1" lang="en-US" sz="2000" spc="-1" strike="noStrike">
                <a:solidFill>
                  <a:srgbClr val="e00204"/>
                </a:solidFill>
                <a:latin typeface="Times New Roman"/>
              </a:rPr>
              <a:t>1986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: Hood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realizza il primo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sequenziamento automatico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 (-&gt; </a:t>
            </a:r>
            <a:r>
              <a:rPr b="1" lang="en-US" sz="2000" spc="-1" strike="noStrike" u="sng">
                <a:solidFill>
                  <a:srgbClr val="e00204"/>
                </a:solidFill>
                <a:uFillTx/>
                <a:latin typeface="Times New Roman"/>
              </a:rPr>
              <a:t>Mb/mu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90440" y="5959440"/>
            <a:ext cx="8763120" cy="1050840"/>
            <a:chOff x="190440" y="5959440"/>
            <a:chExt cx="8763120" cy="1050840"/>
          </a:xfrm>
        </p:grpSpPr>
        <p:sp>
          <p:nvSpPr>
            <p:cNvPr id="81" name=""/>
            <p:cNvSpPr/>
            <p:nvPr/>
          </p:nvSpPr>
          <p:spPr>
            <a:xfrm>
              <a:off x="190440" y="5959440"/>
              <a:ext cx="8763120" cy="68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La tecnologia è disponibile: 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si può rapidamente sequenziare e diffondere i dati.</a:t>
              </a:r>
              <a:br>
                <a:rPr sz="2000"/>
              </a:b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Ma occorrono:   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MEZZI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  -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UOMINI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  -  </a:t>
              </a:r>
              <a:r>
                <a:rPr b="1" lang="en-US" sz="2000" spc="-1" strike="noStrike">
                  <a:solidFill>
                    <a:srgbClr val="e00204"/>
                  </a:solidFill>
                  <a:latin typeface="Times New Roman"/>
                </a:rPr>
                <a:t>TEMPO</a:t>
              </a:r>
              <a:r>
                <a:rPr b="0" lang="en-US" sz="2000" spc="-1" strike="noStrike">
                  <a:solidFill>
                    <a:srgbClr val="e00204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32480" y="6553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-114840" y="1447560"/>
            <a:ext cx="9372600" cy="4267080"/>
            <a:chOff x="-114840" y="1447560"/>
            <a:chExt cx="9372600" cy="4267080"/>
          </a:xfrm>
        </p:grpSpPr>
        <p:sp>
          <p:nvSpPr>
            <p:cNvPr id="84" name="PlaceHolder 1"/>
            <p:cNvSpPr>
              <a:spLocks noGrp="1"/>
            </p:cNvSpPr>
            <p:nvPr>
              <p:ph type="title"/>
            </p:nvPr>
          </p:nvSpPr>
          <p:spPr>
            <a:xfrm>
              <a:off x="-114840" y="1447560"/>
              <a:ext cx="937260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1990: </a:t>
              </a:r>
              <a:br>
                <a:rPr sz="6000"/>
              </a:b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Human Genome Project</a:t>
              </a:r>
              <a:br>
                <a:rPr sz="6000"/>
              </a:br>
              <a:r>
                <a:rPr b="1" lang="en-US" sz="6000" spc="-1" strike="noStrike">
                  <a:solidFill>
                    <a:srgbClr val="1416c8"/>
                  </a:solidFill>
                  <a:latin typeface="Times New Roman"/>
                </a:rPr>
                <a:t>(HGP)</a:t>
              </a:r>
              <a:br>
                <a:rPr sz="6000"/>
              </a:br>
              <a:br>
                <a:rPr sz="4000"/>
              </a:br>
              <a:r>
                <a:rPr b="1" lang="en-US" sz="2800" spc="-1" strike="noStrike">
                  <a:solidFill>
                    <a:srgbClr val="1416c8"/>
                  </a:solidFill>
                  <a:latin typeface="Times New Roman"/>
                </a:rPr>
                <a:t>International Human Genome Sequencing Consortium:</a:t>
              </a:r>
              <a:br>
                <a:rPr sz="2800"/>
              </a:br>
              <a:r>
                <a:rPr b="1" lang="en-US" sz="2800" spc="-1" strike="noStrike">
                  <a:solidFill>
                    <a:srgbClr val="1416c8"/>
                  </a:solidFill>
                  <a:latin typeface="Times New Roman"/>
                </a:rPr>
                <a:t>USA, UK, Cina, Francia e Germani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7227720" y="3239640"/>
              <a:ext cx="1344240" cy="134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1° step: migliorare la mappa di linkage in cM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centimorgan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2° step: realizzare una “mappa fisica” in bp 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base pair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3° step: Sequenziamento del Genoma Umano completo</a:t>
            </a: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DNA nucleare:  3.2 miliardi di coppie di basi in 23 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6c8"/>
                </a:solidFill>
                <a:latin typeface="Times New Roman"/>
              </a:rPr>
              <a:t>Dna mitocondriale: 16.600 coppie di basi in 1 cromosoma cir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Tempo totale previs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15 anni (1990 -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Paesi coinvol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5 nazioni (IHG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Spesa previ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1416c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6c8"/>
                </a:solidFill>
                <a:latin typeface="Times New Roman"/>
              </a:rPr>
              <a:t>3 miliardi di dollari </a:t>
            </a:r>
            <a:r>
              <a:rPr b="1" lang="en-US" sz="2000" spc="-1" strike="noStrike">
                <a:solidFill>
                  <a:srgbClr val="1416c8"/>
                </a:solidFill>
                <a:latin typeface="Times New Roman"/>
              </a:rPr>
              <a:t>(~1 dollaro/bp 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HGP - Il piano d’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30891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416c8"/>
                </a:solidFill>
                <a:latin typeface="Times New Roman"/>
              </a:rPr>
              <a:t>BAC End Sequence</a:t>
            </a:r>
            <a:br>
              <a:rPr sz="3800"/>
            </a:br>
            <a:r>
              <a:rPr b="0" lang="en-US" sz="3200" spc="-1" strike="noStrike">
                <a:solidFill>
                  <a:srgbClr val="1416c8"/>
                </a:solidFill>
                <a:latin typeface="Times New Roman"/>
              </a:rPr>
              <a:t>(sequenza delle estremità dell’inserto di un B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228240" y="2495160"/>
            <a:ext cx="4800600" cy="2152800"/>
          </a:xfrm>
          <a:prstGeom prst="roundRect">
            <a:avLst>
              <a:gd name="adj" fmla="val 3020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1523880" y="2362320"/>
            <a:ext cx="228600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288960" y="2476080"/>
            <a:ext cx="762120" cy="381240"/>
          </a:xfrm>
          <a:custGeom>
            <a:avLst/>
            <a:gdLst>
              <a:gd name="textAreaLeft" fmla="*/ 0 w 762120"/>
              <a:gd name="textAreaRight" fmla="*/ 762480 w 762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82680" y="2501280"/>
            <a:ext cx="774720" cy="330120"/>
          </a:xfrm>
          <a:custGeom>
            <a:avLst/>
            <a:gdLst>
              <a:gd name="textAreaLeft" fmla="*/ 0 w 774720"/>
              <a:gd name="textAreaRight" fmla="*/ 775080 w 774720"/>
              <a:gd name="textAreaTop" fmla="*/ -360 h 330120"/>
              <a:gd name="textAreaBottom" fmla="*/ 3301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4440" y="2120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809520" y="2438280"/>
            <a:ext cx="30492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4773"/>
              </a:gs>
              <a:gs pos="50000">
                <a:srgbClr val="089bfb"/>
              </a:gs>
              <a:gs pos="100000">
                <a:srgbClr val="03477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219320" y="2438280"/>
            <a:ext cx="304560" cy="15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4773"/>
              </a:gs>
              <a:gs pos="50000">
                <a:srgbClr val="089bfb"/>
              </a:gs>
              <a:gs pos="100000">
                <a:srgbClr val="03477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60" y="54864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polylinker oltre i siti di restrizione sono contenute le sequenze dei promotori riconosciuti dalle polimerasi Sp6 e T7. Tali sequenze sono riconosciute dai primer omonimi per il sequenziamento delle estremit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1880" y="35812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menti del Poly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895480"/>
            <a:ext cx="0" cy="609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36960" y="2895480"/>
            <a:ext cx="0" cy="609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21240" y="2120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9960" y="1981080"/>
            <a:ext cx="3962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ziamento delle estrem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azione DNA dal B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zione di PCR con nucleotidi marcati con fluorocromi diversi per ogni base azotata utilizzando singolarmente il primer Sp6 e il T7 in due diverse re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tura al sequenziatore automatico delle PCR otte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7:13:29Z</dcterms:created>
  <dc:creator>Pietro D'Addabbo</dc:creator>
  <dc:description/>
  <dc:language>en-US</dc:language>
  <cp:lastModifiedBy>Mariano Rocchi</cp:lastModifiedBy>
  <dcterms:modified xsi:type="dcterms:W3CDTF">2004-06-08T06:04:24Z</dcterms:modified>
  <cp:revision>324</cp:revision>
  <dc:subject/>
  <dc:title>Genetica e Genomica e Bioinformatica</dc:title>
</cp:coreProperties>
</file>